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3BC-3147-4A5C-B162-E9F53A5F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FFB-ED6C-4CF9-B01F-9F3F232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B95-1992-45E6-92C4-A229993E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1E1-4861-48EF-ADAD-7747E0A3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7F8-1B11-4099-B0B9-B9E6528B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AD8-E1DE-4F6B-B19F-5EA48922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20D-8C8F-4DFC-9946-5A97A604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281-D7C8-418B-8AED-18B74CA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2B1-E501-4E56-8CF7-005A1D7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858-7A38-4C54-8E23-816219C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130-8468-4DC9-8D2D-B82D20B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EC8-3DC6-42AF-BB54-81E0EB7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51B2-5B57-42FF-891B-36C1563F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We will use 3 x 150,000 L fermen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Volume usage is 61% of BF ( range of 60-70%) = 91, 5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gae [ 27 g/L ] x 91, 500 L / x  1KG/1000 g =  2470 kg of Algae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ipids- of the Algae produced 25% would be lipids  [ 6.75 g/L ] = 617.5 kg of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lgae bodies 1852.5 Kg of algae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27:57Z</dcterms:created>
  <dc:creator>xplabpc</dc:creator>
  <dc:description/>
  <dc:language>en-US</dc:language>
  <cp:lastModifiedBy>xplabpc</cp:lastModifiedBy>
  <dcterms:modified xsi:type="dcterms:W3CDTF">2010-02-05T23:09:59Z</dcterms:modified>
  <cp:revision>2</cp:revision>
  <dc:subject/>
  <dc:title>Yields</dc:title>
</cp:coreProperties>
</file>